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2AFB-24EC-460E-B430-2A19A6BFB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1B9-095E-4A25-A0D7-796A06BA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37FE-3C71-4C3A-ACF7-BCA340F5E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B4A8-8C66-4018-9566-D96206D75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E2C9-981B-43A8-BE53-08CEA83A4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EAD1-E373-43F0-A08F-C91D9C9C8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                                                                     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432B10E-E965-4B5F-ADE8-494F0A9AD7A3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72720" y="6244920"/>
            <a:ext cx="771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B74E501-24BF-4F1B-A90A-AFB06EE26ED7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8C97CF-2F8A-4A7E-8C8D-2041585318E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0030030D-312D-4105-8A12-FE56321A424A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1CB1E7-4A70-4313-819F-16A111103A45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72C2B3A-B0FC-42F4-B0C3-51A4967E05D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340633E-FDE1-47BA-97AB-46B779A3283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F479D6-3EA1-4F20-8572-77FF4378297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5762160"/>
            <a:ext cx="876600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Finding and Organizing Information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7 &amp;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aving Files 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907920" y="1600200"/>
            <a:ext cx="777888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Butt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v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a fi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logical and descrip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p to 255 characters in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contain these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 \  :  ?  “  &lt;  &gt;  |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7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B7B1322-A74A-4982-BBBC-D2C5A6AF1873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 Path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907920" y="1600200"/>
            <a:ext cx="77788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hown in the address bar of your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exact location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folder, subfolders, and file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9"/>
          <p:cNvGrpSpPr/>
          <p:nvPr/>
        </p:nvGrpSpPr>
        <p:grpSpPr>
          <a:xfrm>
            <a:off x="1727280" y="4151160"/>
            <a:ext cx="5821200" cy="1033200"/>
            <a:chOff x="1727280" y="4151160"/>
            <a:chExt cx="5821200" cy="1033200"/>
          </a:xfrm>
        </p:grpSpPr>
        <p:sp>
          <p:nvSpPr>
            <p:cNvPr id="384" name="Text Box 17"/>
            <p:cNvSpPr/>
            <p:nvPr/>
          </p:nvSpPr>
          <p:spPr>
            <a:xfrm>
              <a:off x="1727280" y="4151160"/>
              <a:ext cx="58212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\Computers\Chapter 2\Moon 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1800360" y="4762440"/>
              <a:ext cx="272880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file 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7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86646CA-6484-42F8-80EC-8F1CE4B52D0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pter 2, Lesson 8: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nd Information &amp; Print Fil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nly work with one active program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window a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window. It will bring it to front for bette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to be darker &amp; brighter. (Inactive windows are fa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2B3FF9E-F54A-4355-B9E4-AD357554440D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pter 2, Lesson 8: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nd Information &amp; Print Fil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viewing &amp; Printing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 Preview command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,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 Preview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 the Print window. Can see # pages &amp; how it will look when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gnif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se zoom control at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rs. Keehn’s Printe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S218 Lab, HP35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8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40C2D75-BE23-4133-B969-7EE7A033923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6:45Z</dcterms:created>
  <dc:creator>Jean Bissell</dc:creator>
  <dc:description>Copyright 2006 South-Western/Thomson</dc:description>
  <dc:language>en-US</dc:language>
  <cp:lastModifiedBy>Lenessa Keehn</cp:lastModifiedBy>
  <dcterms:modified xsi:type="dcterms:W3CDTF">2011-03-28T15:10:57Z</dcterms:modified>
  <cp:revision>54</cp:revision>
  <dc:subject/>
  <dc:title>Slide 1</dc:title>
</cp:coreProperties>
</file>